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F5986-6BC1-4D82-A110-C25D6D2072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8D2C7-DFC0-42A6-87BB-335E2733D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5A5EDE-F0C7-4C4D-83F8-FFDF64139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C0167-7832-4E2B-ACB0-768A4D6E5B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411F1A-B280-4C58-918E-8DCF1DC16A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182-1510-4F7B-A189-32EFCCF0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31BA-9847-4C01-AA93-F274DE88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D73-341D-4543-AD89-64173342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91B-82A3-4768-B132-F3761D32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0145-4EAB-47C5-B7EE-CBFD003A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0C67-C62D-4282-9771-C2F66C48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FAAC-FB57-4AC9-AF6E-3B66537F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903-3AA2-4A2E-96C7-1D32FCE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4459-6A51-424D-8D09-4B68657C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549-A550-4695-A160-687891C9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4246-D930-4284-886D-483CC167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BB1-7524-4BB4-AF99-2FEB74A8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1518-0294-42B8-9F0F-A5E06460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5815-17B7-4987-9B9B-BA381605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B6F-6472-4659-B086-2827B7C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9948-75E8-49B0-93F3-1C6FD89B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09D9-76CD-4EF2-9760-C92AF0D3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A3F6FC-CB7E-4229-B86C-D98339DC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ACD66D-4FE4-4B93-966D-85764DE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31E63-0E80-4452-B428-0E844D8D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BB054-96E9-44DE-A98C-5A26C45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6F9FEF-4897-476B-B2DA-0EE26471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D5CA-FB2B-4995-AD71-874ECBA2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997D0-1B3F-43F2-AE08-61D5A5F8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126E2-2137-4932-99D7-B05AFF3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BA40C0-D175-473D-A367-6370C784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8D9CE-375B-4B4D-9273-F844CCB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C02AC-1E65-4600-BDD8-6FE5B61C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62E85B-6B5D-4857-A8E3-ACF47954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31AA1-5983-42ED-AABA-18ADF673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740E-4F7D-437A-A1D2-4D1AAD636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D499-94F0-4515-BAFB-01C2F568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7CC30-36C0-49C9-9233-572EADA2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1AA-EB8C-4260-8FA9-489D7771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DF7B3-31A5-4E71-A4B4-44120845C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D252-4D19-4250-B8DF-AA11C2D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72E2-E403-4994-9D55-D1FB16E3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9A9D1-504D-45EA-B94A-52C469C7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C1A8-E46A-4D23-A03F-7DEB6EF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018C-0F3B-483A-947D-3023232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3217E-BB11-48A8-AB26-1DCA6692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89337-D191-4D8C-A534-C53D67C6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AC12-7D56-4D7A-94E3-2334A020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41E8E-464D-417C-B614-354DD65E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3A4-E69D-4905-A438-C8AC2D5D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7336FD-3663-46D7-9E60-AC28B76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033BD0-5DA7-4A35-85E8-9B432E59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E920A5-67F6-46E5-8DA9-B803495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DCCB3E-24EF-4F39-B19E-B432E073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8B8C9-0D66-4B41-AC87-C3AECA8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AF140-2694-43FF-A6DB-D8B0A85D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31C4A-A396-4351-BB15-4A60793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E5CD5D-9EBF-4146-9F5D-D4D0F36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E50896-5776-47D7-89C0-E78D93B0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28C3F-FD28-443A-B700-696E92EC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505-FD67-4E41-9A26-AA3D1CC8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1B89E-B1C3-4B2E-A959-D0D5110A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7D8AA-8D51-4665-8669-687B189B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C05A7-BE68-4CA5-AF92-ED5C2D95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8FADF3-A8C2-43F4-BE0E-33489907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315D2-B25D-4B93-9F5B-B88B0C58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A8793-0A04-43AC-BEF1-B99166FC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B3A635-3349-4DFD-B976-68B143E3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B6D85-040B-4B8C-8AB3-DA872CC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99F6C-9AB4-4A14-B4D3-A4AD3FD5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309F78-2681-4690-98C7-B047AD32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2351-851C-4FD8-A3DE-9F92F22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41F0C9-2E88-455E-A1CA-11B7FE55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28E30-7A07-4AB9-AA29-9524105E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A795E-E7C5-4D0A-A63E-0E6B934C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707C1E-0F93-494A-A1BF-3918FEAC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224DF-B87A-4739-B708-C1B63276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77276-0A12-419D-9546-93709606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872CEA-6619-462D-B8FC-423241A5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20D2F-2066-4419-8B87-58105AD7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26419E-5687-4D7B-919D-9EB68780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2F000-7017-4790-ADC6-0F6CAB8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A9BD-F384-4B68-8E06-4DCFB5E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CF58A2-6E56-4C94-BE77-D5E30A6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DCFBD-E4CD-456F-A031-053450DD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127489-6F9D-438D-B450-3EEA363A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2EA1F-063E-41E1-B6A5-F28CAF0C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D33B33-43D7-4206-A62C-AAC22808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A17-3A6A-444D-B61A-1318EC6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1AFD1-8635-47DA-8813-A595598B2C04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95FF05-320B-40C1-94A3-662295E1F3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835A5-06FE-4F64-BBEA-544E6DE2F62A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F58FE-0B58-489A-8E25-A7AA02D333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6CC03-4925-4D53-A738-7495F2EC932D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1D574-2BF3-4B7C-AAFE-363D14F9B7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4030D-2480-497D-AF3D-9D8916A9180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EAC525-D34C-49E5-8700-65F19D9C40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BFA9F-C3BC-4C10-AA71-5900F1590A92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7BBB61-9457-416E-A75C-884DEFC33C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D58A8-EAD9-4627-8CD0-0D1A903C02D6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03DE4-A28E-4367-9111-66C04875BF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1D71D0-8003-4B7F-8827-0CD7C899A05B}" type="datetime"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5363B-1AC6-498B-B774-EE242273B9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WEB-BASED BIOINFORMATICS PIPELINES FOR BIOLOGIS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ntegrative Services for Genomic Analysis (ISGA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enter for Genomics and Bioformatic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CT: biohelp@cgb.indiana.ed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HE GO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8" name="Content Placeholder 3" descr="new-usage.eps"/>
          <p:cNvPicPr/>
          <p:nvPr/>
        </p:nvPicPr>
        <p:blipFill>
          <a:blip r:embed="rId1"/>
          <a:srcRect l="0" t="-565" r="0" b="-565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ISGA: WHIRLWIND TOU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7680" y="0"/>
            <a:ext cx="8039160" cy="68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toggle some clusters on/off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clusters contain parallel programs that can be independently toggl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edit component paramet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save customizations to use with later data se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IPELINE BUILD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Picture 4" descr="Screen shot 2010-01-14 at 10.01.40 AM.png"/>
          <p:cNvPicPr/>
          <p:nvPr/>
        </p:nvPicPr>
        <p:blipFill>
          <a:blip r:embed="rId1"/>
          <a:stretch/>
        </p:blipFill>
        <p:spPr>
          <a:xfrm>
            <a:off x="0" y="1417680"/>
            <a:ext cx="91440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UN STATU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6" descr="Screen shot 2010-01-14 at 10.03.31 AM.png"/>
          <p:cNvPicPr/>
          <p:nvPr/>
        </p:nvPicPr>
        <p:blipFill>
          <a:blip r:embed="rId1"/>
          <a:stretch/>
        </p:blipFill>
        <p:spPr>
          <a:xfrm>
            <a:off x="0" y="1079640"/>
            <a:ext cx="9004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PIPELINE EXEC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writes configuration and pipeline definition files to the Ergatis instal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hen triggers execution through Ergatis and receives the pipeline id in retu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tatus is updated directly from Ergatis XML fi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lected output is copied to ISGA, and the rest is available for download if need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TOOLBOX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s a GBrowse instance for visualizing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LAST support for pipeline results as query or data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xt search against annotation resul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ools can be executed over SGE and monitor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DMINISTRATIVE TO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ly monitor status in ISGA w/ link to Ergatis   p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ification when pipeline fails, ISGA will pick up a resumed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bility to redirect ISGA to a cloned Ergatis pipeline or cancel (w/ user notifica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sable new job sub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1255680" y="3633840"/>
            <a:ext cx="5791320" cy="2895480"/>
          </a:xfrm>
          <a:prstGeom prst="rect">
            <a:avLst/>
          </a:prstGeom>
          <a:solidFill>
            <a:srgbClr val="fff39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255680" y="1424160"/>
            <a:ext cx="5718240" cy="1914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8"/>
          <p:cNvSpPr/>
          <p:nvPr/>
        </p:nvSpPr>
        <p:spPr>
          <a:xfrm flipH="1" flipV="1">
            <a:off x="476064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3998880" y="33289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0"/>
          <p:cNvSpPr/>
          <p:nvPr/>
        </p:nvSpPr>
        <p:spPr>
          <a:xfrm>
            <a:off x="3922560" y="53103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1640160" y="1881360"/>
            <a:ext cx="1875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build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me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pip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st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5711760" y="1995480"/>
            <a:ext cx="63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6"/>
          <p:cNvSpPr/>
          <p:nvPr/>
        </p:nvSpPr>
        <p:spPr>
          <a:xfrm>
            <a:off x="2666880" y="14940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Web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26"/>
          <p:cNvGrpSpPr/>
          <p:nvPr/>
        </p:nvGrpSpPr>
        <p:grpSpPr>
          <a:xfrm>
            <a:off x="1484280" y="5005440"/>
            <a:ext cx="2597040" cy="983520"/>
            <a:chOff x="1484280" y="5005440"/>
            <a:chExt cx="2597040" cy="983520"/>
          </a:xfrm>
        </p:grpSpPr>
        <p:sp>
          <p:nvSpPr>
            <p:cNvPr id="406" name="Rectangle 5"/>
            <p:cNvSpPr/>
            <p:nvPr/>
          </p:nvSpPr>
          <p:spPr>
            <a:xfrm>
              <a:off x="1484280" y="5005440"/>
              <a:ext cx="2597040" cy="966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15"/>
            <p:cNvSpPr/>
            <p:nvPr/>
          </p:nvSpPr>
          <p:spPr>
            <a:xfrm>
              <a:off x="1523880" y="5377320"/>
              <a:ext cx="20653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oinformatics too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put and resul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1524960" y="5034240"/>
              <a:ext cx="196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hared 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4"/>
          <p:cNvSpPr/>
          <p:nvPr/>
        </p:nvSpPr>
        <p:spPr>
          <a:xfrm>
            <a:off x="3983040" y="1944720"/>
            <a:ext cx="2746440" cy="1219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4073040" y="1944720"/>
            <a:ext cx="27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greSQ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4074480" y="2338560"/>
            <a:ext cx="218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peline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ac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ot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29"/>
          <p:cNvGrpSpPr/>
          <p:nvPr/>
        </p:nvGrpSpPr>
        <p:grpSpPr>
          <a:xfrm>
            <a:off x="2855880" y="3786120"/>
            <a:ext cx="2450880" cy="965160"/>
            <a:chOff x="2855880" y="3786120"/>
            <a:chExt cx="2450880" cy="965160"/>
          </a:xfrm>
        </p:grpSpPr>
        <p:sp>
          <p:nvSpPr>
            <p:cNvPr id="413" name="Rectangle 7"/>
            <p:cNvSpPr/>
            <p:nvPr/>
          </p:nvSpPr>
          <p:spPr>
            <a:xfrm>
              <a:off x="2855880" y="3786120"/>
              <a:ext cx="2450880" cy="965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0"/>
            <p:cNvSpPr/>
            <p:nvPr/>
          </p:nvSpPr>
          <p:spPr>
            <a:xfrm>
              <a:off x="3210840" y="4110120"/>
              <a:ext cx="1945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ML config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orkflow eng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1"/>
            <p:cNvSpPr/>
            <p:nvPr/>
          </p:nvSpPr>
          <p:spPr>
            <a:xfrm>
              <a:off x="3598560" y="3786120"/>
              <a:ext cx="9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gat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6"/>
          <p:cNvSpPr/>
          <p:nvPr/>
        </p:nvSpPr>
        <p:spPr>
          <a:xfrm>
            <a:off x="4379760" y="5005440"/>
            <a:ext cx="2451240" cy="965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2"/>
          <p:cNvSpPr/>
          <p:nvPr/>
        </p:nvSpPr>
        <p:spPr>
          <a:xfrm>
            <a:off x="4602240" y="5018040"/>
            <a:ext cx="20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Grid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4610520" y="538632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schedu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161160" y="60721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GA Bac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0"/>
          <p:cNvSpPr/>
          <p:nvPr/>
        </p:nvSpPr>
        <p:spPr>
          <a:xfrm flipV="1">
            <a:off x="3160080" y="4776480"/>
            <a:ext cx="222120" cy="22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JUSTIFICATION AND HISTOR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NDER THE HOOD (CONTINUED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l &amp; jQu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istence = PostgreSQL &amp; YAML &amp; X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sonX::WebAp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acked up HTML::FormEng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ADDING AN ERGATIS PIPELINE TO 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039160" cy="68119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4"/>
          <p:cNvSpPr/>
          <p:nvPr/>
        </p:nvSpPr>
        <p:spPr>
          <a:xfrm>
            <a:off x="5865840" y="0"/>
            <a:ext cx="32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64 Ergati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IRST: UNDERSTAND THE PIPE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takes a description of an Ergatis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YAM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atabase Schem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rgatis component .config fi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cument input and output of all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components are optional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user can upload previously generated data in their stea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lternative data from the pipeline can be use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pipeline is still useful without this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IMPLIFIC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ur microbial annotation pipeline is composed of 64 Ergatis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ossible to diagram for you on a slide or for  a biologist on our web pag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of these components are file format conversions, program iterations, database preparation, etc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y are not relevant to a high level view of the pipeline and offer no useful parameters for a biologist to customiz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USTERS OF ERGATIS COMPONEN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822960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eak the pipeline into biologically meaningful clusters of one or more componen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is is as much art as science, may depend on your audie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ample: ‘Alternative Start Site Analysis’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3" name="TextBox 3" descr=""/>
          <p:cNvPicPr/>
          <p:nvPr/>
        </p:nvPicPr>
        <p:blipFill>
          <a:blip r:embed="rId1"/>
          <a:stretch/>
        </p:blipFill>
        <p:spPr>
          <a:xfrm>
            <a:off x="450720" y="4309920"/>
            <a:ext cx="82425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CUSTOMIZ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cripts and XML files are unchang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SGA stores the configuration template for each compon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ponents with editable parameters have a YAML definition that is used to build the web for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values are incorporated into the configuration templ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OMPONE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-- !perl/ISGA::ComponentBuilder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ame: RNAmmer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escription: ‘RNAmmerpredicts 5s/8s, 16s/18s, and …’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select', NAME: 'molecules', TITLE: 'rRNA Molecules', REQUIRED: 1, OPTION: ['ssu (5/8s rRNA)', 'lsu (16 /18s rRNA)', 'tsu (23/28s rRNA)', 'ssu and lsu', …], OPT_VAL: ['ssu' , 'lsu', 'tsu', 'ssu,lsu’, …], VALUE: 'ssu,lsu,tsu', DESCRIPTION: 'Declare what rRNA molecule types to search for.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molecule___’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RunBuilderParams: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- { templ: 'hidden', NAME: 'project_id_root', TITLE: 'Project Id Root', REQUIRED: 1, DESCRIPTION: 'The Id root used in bsml id generation', </a:t>
            </a:r>
            <a:r>
              <a:rPr b="0" lang="en-US" sz="2200" spc="-1" strike="noStrike">
                <a:solidFill>
                  <a:srgbClr val="0000ff"/>
                </a:solidFill>
                <a:latin typeface="Century Schoolbook"/>
              </a:rPr>
              <a:t>CONFIGLINE: '___project_id_root___'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ISGA WORK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additional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mall prokaryotic assembly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arative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unctional genom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dd additional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ake pipelines modular components of ISG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mplement pipeline version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ipeline and data shar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rgatis Cloud Support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Picture 4" descr="Chris_Hemmerich"/>
          <p:cNvPicPr/>
          <p:nvPr/>
        </p:nvPicPr>
        <p:blipFill>
          <a:blip r:embed="rId1"/>
          <a:stretch/>
        </p:blipFill>
        <p:spPr>
          <a:xfrm>
            <a:off x="2209680" y="2666880"/>
            <a:ext cx="1462320" cy="18273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" descr="Aaron_Buechlein"/>
          <p:cNvPicPr/>
          <p:nvPr/>
        </p:nvPicPr>
        <p:blipFill>
          <a:blip r:embed="rId2"/>
          <a:stretch/>
        </p:blipFill>
        <p:spPr>
          <a:xfrm>
            <a:off x="457200" y="2666880"/>
            <a:ext cx="1417680" cy="18306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Qunfeng_Dong"/>
          <p:cNvPicPr/>
          <p:nvPr/>
        </p:nvPicPr>
        <p:blipFill>
          <a:blip r:embed="rId3"/>
          <a:stretch/>
        </p:blipFill>
        <p:spPr>
          <a:xfrm>
            <a:off x="7162920" y="2666880"/>
            <a:ext cx="146196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8"/>
          <p:cNvSpPr/>
          <p:nvPr/>
        </p:nvSpPr>
        <p:spPr>
          <a:xfrm>
            <a:off x="7089840" y="4724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9"/>
          <p:cNvSpPr/>
          <p:nvPr/>
        </p:nvSpPr>
        <p:spPr>
          <a:xfrm>
            <a:off x="3746160" y="472428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shi Rev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>
            <a:off x="1984320" y="510552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>
            <a:off x="156240" y="472428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ron Buechl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Ram"/>
          <p:cNvPicPr/>
          <p:nvPr/>
        </p:nvPicPr>
        <p:blipFill>
          <a:blip r:embed="rId4"/>
          <a:stretch/>
        </p:blipFill>
        <p:spPr>
          <a:xfrm>
            <a:off x="5562720" y="2666880"/>
            <a:ext cx="1434960" cy="18226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3"/>
          <p:cNvSpPr/>
          <p:nvPr/>
        </p:nvSpPr>
        <p:spPr>
          <a:xfrm>
            <a:off x="5565960" y="51055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m Podich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Kashi_Vishwanath_Revanna"/>
          <p:cNvPicPr/>
          <p:nvPr/>
        </p:nvPicPr>
        <p:blipFill>
          <a:blip r:embed="rId5"/>
          <a:stretch/>
        </p:blipFill>
        <p:spPr>
          <a:xfrm>
            <a:off x="3886200" y="2666880"/>
            <a:ext cx="1530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SGA BACKGROU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Provide a high-throughput microbial annotation service to local biologis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Reliable and pipelined executio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Efficient mainten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entury Schoolbook"/>
              </a:rPr>
              <a:t>Provide privacy and security fo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gh-quality (automated) annot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iologists able to customize parameter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ble to incorporate new programs and pipeli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ERGATIS (ERGATIS.SOURCEFORGE.NET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4880"/>
            <a:ext cx="822816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eb-based analysis pipeline too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Wraps tools and utilities in “component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Ability to add new component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Build new and customize exist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-depth monitoring of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Underlying Workflow package supports S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XML/BSML common data exchange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31640" indent="-3236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Schoolbook"/>
              </a:rPr>
              <a:t>Includes prokaryotic annotation pipeli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RGATIS WORKFLO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Content Placeholder 6" descr="ergatis-dia1.eps"/>
          <p:cNvPicPr/>
          <p:nvPr/>
        </p:nvPicPr>
        <p:blipFill>
          <a:blip r:embed="rId1"/>
          <a:srcRect l="0" t="-16380" r="54685" b="-16380"/>
          <a:stretch/>
        </p:blipFill>
        <p:spPr>
          <a:xfrm>
            <a:off x="2471760" y="1600200"/>
            <a:ext cx="338436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 SLIGHT CORRE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Content Placeholder 4" descr="ergatis-dia1.eps"/>
          <p:cNvPicPr/>
          <p:nvPr/>
        </p:nvPicPr>
        <p:blipFill>
          <a:blip r:embed="rId1"/>
          <a:srcRect l="44693" t="-16380" r="0" b="-16380"/>
          <a:stretch/>
        </p:blipFill>
        <p:spPr>
          <a:xfrm>
            <a:off x="2260440" y="1600200"/>
            <a:ext cx="4131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WHY NOT EXPOSE ERGATIS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sufficient accounts and permissi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red interface for building and customizing pipeli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rs must submit and retrieve results through filesyst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ipeline monitoring interface is slow and complex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formation of use to biologists is lost in “nois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High umber of components in a pipelin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mplexity of configuration interfa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503360" y="0"/>
            <a:ext cx="67914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2"/>
          <p:cNvSpPr/>
          <p:nvPr/>
        </p:nvSpPr>
        <p:spPr>
          <a:xfrm>
            <a:off x="1503360" y="1801800"/>
            <a:ext cx="6791400" cy="1230480"/>
          </a:xfrm>
          <a:prstGeom prst="rect">
            <a:avLst/>
          </a:prstGeom>
          <a:solidFill>
            <a:srgbClr val="ff0000">
              <a:alpha val="13000"/>
            </a:srgbClr>
          </a:solidFill>
          <a:ln w="12600">
            <a:solidFill>
              <a:srgbClr val="ff6903"/>
            </a:solidFill>
            <a:miter/>
          </a:ln>
          <a:effectLst>
            <a:outerShdw dist="20160" dir="5400000" blurRad="0" rotWithShape="0">
              <a:srgbClr val="80808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UR S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an alternative interface for biologists that uses the Ergatis backe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dministrators also use Ergati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w interfac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Accounts and permission syst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ile managemen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implify pipelines and component management by reducing functiona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rovide form validation, documentation and other features to improve usabil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4419720" y="3378240"/>
            <a:ext cx="304560" cy="1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19:32Z</dcterms:created>
  <dc:creator>Chris</dc:creator>
  <dc:description/>
  <dc:language>en-US</dc:language>
  <cp:lastModifiedBy>Chris</cp:lastModifiedBy>
  <dcterms:modified xsi:type="dcterms:W3CDTF">2010-01-15T23:15:04Z</dcterms:modified>
  <cp:revision>12</cp:revision>
  <dc:subject/>
  <dc:title>Slide 1</dc:title>
</cp:coreProperties>
</file>